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BAE-9CBF-4523-96D8-83BEB8A5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B92-AE01-4E09-8F65-22F15893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515-5DA7-459D-AFB7-82C9F3EC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425-7DFE-4B56-B33F-55A8B7C5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E0E-9DF6-4AE2-8A5F-667FBC29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755-033B-47A8-B05E-F54916F5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9B1-AA9D-4BFE-B24B-AE5CAFA7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222-FA69-442E-B629-C236570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9D5-F1A2-41D7-8183-168F4821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A3F-B2A4-4C2E-9EA3-98A6D908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031-02AA-48A9-B91C-47D7EA73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89C-0D54-46DC-B227-E76E4043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0F02-57BF-4E2B-821C-5F1C5A5BE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1182600"/>
            <a:ext cx="129564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 Transfer 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13080" y="1184400"/>
            <a:ext cx="16002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 Application for Complet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 flipH="1">
            <a:off x="6582600" y="1184400"/>
            <a:ext cx="17226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 Qualifications of Applicant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565360" y="2940120"/>
            <a:ext cx="3316320" cy="146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 CX for Transfer of Preference  – Cite Departmental Manual 516. Document whether 12 Extraordinary Circumstances App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380880" y="2908440"/>
            <a:ext cx="175284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sue Decision to Deny Application if Applicant is not Qualified (exceptions listed in 43 CF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110.2-3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6291360" y="2908440"/>
            <a:ext cx="2624040" cy="28371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Partial Transfer of Preference or Multiple Applic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 Terms and Conditions to all Permits Ensuring that Sum of Livestock Numbers and Sum of Use on All Permits is the Same as on Terminated Perm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6291360" y="6238800"/>
            <a:ext cx="2624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sue Multiple Permit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570040" y="4803840"/>
            <a:ext cx="331164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Transfer of All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sue Permit to Applicant under Authority of Section 402(c)(2) of the FLPM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own Arrow 12"/>
          <p:cNvSpPr/>
          <p:nvPr/>
        </p:nvSpPr>
        <p:spPr>
          <a:xfrm rot="16200000">
            <a:off x="2213640" y="789840"/>
            <a:ext cx="486000" cy="1712880"/>
          </a:xfrm>
          <a:prstGeom prst="downArrow">
            <a:avLst>
              <a:gd name="adj1" fmla="val 50000"/>
              <a:gd name="adj2" fmla="val 4986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3"/>
          <p:cNvSpPr/>
          <p:nvPr/>
        </p:nvSpPr>
        <p:spPr>
          <a:xfrm rot="16200000">
            <a:off x="5518080" y="824040"/>
            <a:ext cx="486000" cy="16444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15"/>
          <p:cNvCxnSpPr>
            <a:stCxn id="43" idx="2"/>
            <a:endCxn id="45" idx="0"/>
          </p:cNvCxnSpPr>
          <p:nvPr/>
        </p:nvCxnSpPr>
        <p:spPr>
          <a:xfrm rot="5400000">
            <a:off x="3947040" y="-588600"/>
            <a:ext cx="807480" cy="6187320"/>
          </a:xfrm>
          <a:prstGeom prst="bentConnector3">
            <a:avLst>
              <a:gd name="adj1" fmla="val 50000"/>
            </a:avLst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2" name="Elbow Connector 18"/>
          <p:cNvCxnSpPr>
            <a:stCxn id="43" idx="2"/>
            <a:endCxn id="44" idx="0"/>
          </p:cNvCxnSpPr>
          <p:nvPr/>
        </p:nvCxnSpPr>
        <p:spPr>
          <a:xfrm rot="5400000">
            <a:off x="5414400" y="910440"/>
            <a:ext cx="839160" cy="3220920"/>
          </a:xfrm>
          <a:prstGeom prst="bentConnector3">
            <a:avLst>
              <a:gd name="adj1" fmla="val 50000"/>
            </a:avLst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3" name="Elbow Connector 21"/>
          <p:cNvCxnSpPr>
            <a:stCxn id="44" idx="2"/>
            <a:endCxn id="48" idx="0"/>
          </p:cNvCxnSpPr>
          <p:nvPr/>
        </p:nvCxnSpPr>
        <p:spPr>
          <a:xfrm flipH="1" rot="16200000">
            <a:off x="4025520" y="4603680"/>
            <a:ext cx="398520" cy="2520"/>
          </a:xfrm>
          <a:prstGeom prst="bentConnector3">
            <a:avLst>
              <a:gd name="adj1" fmla="val 50000"/>
            </a:avLst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54" name="TextBox 24"/>
          <p:cNvSpPr/>
          <p:nvPr/>
        </p:nvSpPr>
        <p:spPr>
          <a:xfrm>
            <a:off x="2133720" y="335592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521080" y="25704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achment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Elbow Connector 59"/>
          <p:cNvCxnSpPr>
            <a:stCxn id="44" idx="3"/>
            <a:endCxn id="46" idx="1"/>
          </p:cNvCxnSpPr>
          <p:nvPr/>
        </p:nvCxnSpPr>
        <p:spPr>
          <a:xfrm>
            <a:off x="5881680" y="3672720"/>
            <a:ext cx="410040" cy="654480"/>
          </a:xfrm>
          <a:prstGeom prst="bentConnector3">
            <a:avLst>
              <a:gd name="adj1" fmla="val 50000"/>
            </a:avLst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57" name="Down Arrow 85"/>
          <p:cNvSpPr/>
          <p:nvPr/>
        </p:nvSpPr>
        <p:spPr>
          <a:xfrm>
            <a:off x="7605720" y="5770440"/>
            <a:ext cx="120600" cy="468360"/>
          </a:xfrm>
          <a:prstGeom prst="downArrow">
            <a:avLst>
              <a:gd name="adj1" fmla="val 50000"/>
              <a:gd name="adj2" fmla="val 501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80880" y="6094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suing Permits following Transfer of Preference in Accordance with Section 402(c)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7:19:34Z</dcterms:created>
  <dc:creator>Mayberry, Richard</dc:creator>
  <dc:description/>
  <dc:language>en-US</dc:language>
  <cp:lastModifiedBy>Williams, Robert M</cp:lastModifiedBy>
  <cp:lastPrinted>2015-05-07T21:10:22Z</cp:lastPrinted>
  <dcterms:modified xsi:type="dcterms:W3CDTF">2015-07-21T17:14:11Z</dcterms:modified>
  <cp:revision>8</cp:revision>
  <dc:subject/>
  <dc:title>PowerPoint Presentation</dc:title>
</cp:coreProperties>
</file>